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1135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113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1240" cy="47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1193400" y="708120"/>
            <a:ext cx="4724280" cy="354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7"/>
          </p:nvPr>
        </p:nvSpPr>
        <p:spPr>
          <a:xfrm>
            <a:off x="4030560" y="0"/>
            <a:ext cx="3081600" cy="47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975880"/>
            <a:ext cx="3081240" cy="47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AEAB69B-127A-491C-B8B4-331744C1E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D1BAE35-FACE-4CB8-9EDC-CBDE6DEFB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5F4A4CCD-5407-493E-8233-EC1FCC798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ERA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acronym stand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some background history related to MITRE overview whit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we seeking to formalize?  (validation, versioning, extensibility, adop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6819633-8F85-448D-94BD-974861F1B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D736B09-3DEC-40AC-96EA-33942CDBC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65282F4-0D85-4AE0-9B72-B75AEE17F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3727062-3836-4101-8E67-E9AF8F0CD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 provides enough information to distinguish one remediation from another (i.e., yes, this is the remediation I am interested in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I provides additional information – possible references, preconditions, known issu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1397DDF-1B5C-4BDB-9D42-0A2699F54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A58B-DBF3-42FE-9324-D0FE3A85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10076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5C2C-7A88-4564-BE22-1852BDF1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80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3BD7-3F1C-4278-8BD6-3FA5A6A17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9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0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9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0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36C0-B3C0-40B3-B689-ED32CCC98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D5D5-2132-4239-80B6-83814A2CA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6CF0-8A1D-44E3-9380-720FF8F6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BBE6-76DA-4141-AA2C-E3B825FB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EC83-CB2F-4846-8B5B-85D6976D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890A-5A3B-4B58-9C0E-441596F1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14680" y="586440"/>
            <a:ext cx="781884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5E7A-B917-40C7-B505-5A621DC4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9A18-BB70-4EDB-B413-8CF06313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F971-7D88-4043-992C-1F292B59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80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3B76-D537-4712-9BBE-DBC3449E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A083-5B5C-4C31-85A3-05FC297D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38080" y="410076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C81A-0DBE-4DDF-8037-BF03D20E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80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C79D-D4F6-429E-AB82-B32EE00A4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9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0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38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9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0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F42E-F30B-4E81-9EDC-FB52B2A99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BF7C-F08C-4F2C-A346-1039E5F6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B627-2CCB-4AB3-A9C2-D21DF6F0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1F03-DF38-424C-949F-7EDF79EF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14680" y="586440"/>
            <a:ext cx="781884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827F-5066-40E2-8D58-0C6267DC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4F98-325A-4B92-A94F-4D99C330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80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B23E-D6C6-4AAD-BEC1-7A12D57E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E7E1-D512-43F0-9972-12D043D1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1905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026A-DED8-4CF6-82E9-F67CC1636FB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43040" y="6248520"/>
            <a:ext cx="43448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marL="216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7493-035B-4E01-9FC9-4AB6A88EC1EC}" type="slidenum">
              <a:rPr b="1" lang="en-US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nistBlue"/>
          <p:cNvPicPr/>
          <p:nvPr/>
        </p:nvPicPr>
        <p:blipFill>
          <a:blip r:embed="rId2"/>
          <a:stretch/>
        </p:blipFill>
        <p:spPr>
          <a:xfrm>
            <a:off x="8001000" y="152280"/>
            <a:ext cx="990720" cy="35424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457200" y="1371600"/>
            <a:ext cx="8305920" cy="0"/>
          </a:xfrm>
          <a:prstGeom prst="line">
            <a:avLst/>
          </a:prstGeom>
          <a:ln w="316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7"/>
          <p:cNvSpPr/>
          <p:nvPr/>
        </p:nvSpPr>
        <p:spPr>
          <a:xfrm>
            <a:off x="1447920" y="5562720"/>
            <a:ext cx="6248160" cy="0"/>
          </a:xfrm>
          <a:prstGeom prst="line">
            <a:avLst/>
          </a:prstGeom>
          <a:ln w="316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4" name="Picture 8" descr="nistBlue"/>
          <p:cNvPicPr/>
          <p:nvPr/>
        </p:nvPicPr>
        <p:blipFill>
          <a:blip r:embed="rId2"/>
          <a:stretch/>
        </p:blipFill>
        <p:spPr>
          <a:xfrm>
            <a:off x="3886200" y="5791320"/>
            <a:ext cx="1143000" cy="407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1981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899E-74BC-48F6-B2AA-A34BCA8C8A1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419360" y="6248520"/>
            <a:ext cx="42685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1730-91D0-4AC3-A1C7-18618655980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david.waltermire@nist.g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1640" y="3428640"/>
            <a:ext cx="43434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4d4d4d"/>
                </a:solidFill>
                <a:latin typeface="Arial"/>
              </a:rPr>
              <a:t>Security Automation Developer Days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4d4d4d"/>
                </a:solidFill>
                <a:latin typeface="Arial"/>
              </a:rPr>
              <a:t>June 14-16, 2010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hris Johns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omputer Security Divis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Information Technology Laborato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e National Institute of Standards and Technology (NIST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34040" y="1572480"/>
            <a:ext cx="790380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Enterprise Remediation Automation Protocol (ERAP)</a:t>
            </a:r>
            <a:endParaRPr b="1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Other Activitie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P validation strategy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P vendor outreach activiti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sioning of identifier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rating a trust mod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81280" y="652320"/>
            <a:ext cx="722880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Contact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3"/>
                </a:solidFill>
                <a:latin typeface="Arial"/>
              </a:rPr>
              <a:t>Contact Inf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3"/>
                </a:solidFill>
                <a:latin typeface="Arial"/>
              </a:rPr>
              <a:t>Christopher Johnso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3"/>
                </a:solidFill>
                <a:latin typeface="Arial"/>
              </a:rPr>
              <a:t>Computer Security Divis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3"/>
                </a:solidFill>
                <a:latin typeface="Arial"/>
              </a:rPr>
              <a:t>Information Technology Laborato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3"/>
                </a:solidFill>
                <a:latin typeface="Arial"/>
              </a:rPr>
              <a:t>National Institute of Standards and Technolog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hristopher.johnson@nist.gov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3"/>
                </a:solidFill>
                <a:latin typeface="Arial"/>
              </a:rPr>
              <a:t>(301) 975-598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2540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ERAP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ERAP components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Use Cas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Capabiliti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Publication Suit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Component Specifications Roadmap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Publication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Activiti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262240" y="510120"/>
            <a:ext cx="469476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What is ERAP?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erpri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di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om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oco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ion of individually maintained, community developed, open specifications to provide a standardized approach to maintaining the security of enterprise system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specifications establish conventions for identifying, describing and orchestrating remediation actions for the enterpris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AP defines how these specification are used in concert to deliver capabilities to the security automation communit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es standardized reference data -- ERAP Cont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ounded Rectangle 10"/>
          <p:cNvSpPr/>
          <p:nvPr/>
        </p:nvSpPr>
        <p:spPr>
          <a:xfrm>
            <a:off x="304920" y="685800"/>
            <a:ext cx="8610480" cy="556272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Rounded Rectangle 9"/>
          <p:cNvSpPr/>
          <p:nvPr/>
        </p:nvSpPr>
        <p:spPr>
          <a:xfrm>
            <a:off x="4572000" y="1295280"/>
            <a:ext cx="2819520" cy="480060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4800600"/>
              <a:gd name="textAreaBottom" fmla="*/ 4663080 h 4800600"/>
            </a:gdLst>
            <a:ahLst/>
            <a:rect l="textAreaLeft" t="textAreaTop" r="textAreaRight" b="textAreaBottom"/>
            <a:pathLst>
              <a:path w="21600" h="36775">
                <a:moveTo>
                  <a:pt x="3600" y="0"/>
                </a:moveTo>
                <a:arcTo wR="3600" hR="3600" stAng="16200000" swAng="-5400000"/>
                <a:lnTo>
                  <a:pt x="0" y="33175"/>
                </a:lnTo>
                <a:arcTo wR="3600" hR="3600" stAng="10800000" swAng="-5400000"/>
                <a:lnTo>
                  <a:pt x="18000" y="367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7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Rounded Rectangle 8"/>
          <p:cNvSpPr/>
          <p:nvPr/>
        </p:nvSpPr>
        <p:spPr>
          <a:xfrm>
            <a:off x="1600200" y="1295280"/>
            <a:ext cx="2971800" cy="480060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4800600"/>
              <a:gd name="textAreaBottom" fmla="*/ 4655520 h 4800600"/>
            </a:gdLst>
            <a:ahLst/>
            <a:rect l="textAreaLeft" t="textAreaTop" r="textAreaRight" b="textAreaBottom"/>
            <a:pathLst>
              <a:path w="21600" h="34891">
                <a:moveTo>
                  <a:pt x="3600" y="0"/>
                </a:moveTo>
                <a:arcTo wR="3600" hR="3600" stAng="16200000" swAng="-5400000"/>
                <a:lnTo>
                  <a:pt x="0" y="31291"/>
                </a:lnTo>
                <a:arcTo wR="3600" hR="3600" stAng="10800000" swAng="-5400000"/>
                <a:lnTo>
                  <a:pt x="18000" y="3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49393"/>
          </a:solidFill>
          <a:ln w="936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3960" y="38160"/>
            <a:ext cx="8381160" cy="5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ERAP Components</a:t>
            </a:r>
            <a:endParaRPr b="1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828800" y="3200400"/>
            <a:ext cx="27432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chine readable XM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ort resul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chestrate remediatio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igure machine stat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press Polic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66720" y="3276360"/>
            <a:ext cx="31244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5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crete remediation action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5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lemental remediation data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5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exchange forma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905120" y="1523880"/>
            <a:ext cx="2514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6720" indent="-396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nguag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96720" indent="-396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ans of express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96720" indent="-396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structions/Result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96720" indent="-396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4572000" y="1523880"/>
            <a:ext cx="28195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6720" indent="-396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numera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96720" indent="-396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ventions for identifying and describing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Rounded Rectangle 6"/>
          <p:cNvSpPr/>
          <p:nvPr/>
        </p:nvSpPr>
        <p:spPr>
          <a:xfrm>
            <a:off x="533520" y="1600200"/>
            <a:ext cx="3733560" cy="4952880"/>
          </a:xfrm>
          <a:custGeom>
            <a:avLst/>
            <a:gdLst>
              <a:gd name="textAreaLeft" fmla="*/ 182160 w 3733560"/>
              <a:gd name="textAreaRight" fmla="*/ 3551400 w 3733560"/>
              <a:gd name="textAreaTop" fmla="*/ 182160 h 4952880"/>
              <a:gd name="textAreaBottom" fmla="*/ 4770720 h 4952880"/>
            </a:gdLst>
            <a:ahLst/>
            <a:rect l="textAreaLeft" t="textAreaTop" r="textAreaRight" b="textAreaBottom"/>
            <a:pathLst>
              <a:path w="21600" h="28654">
                <a:moveTo>
                  <a:pt x="3600" y="0"/>
                </a:moveTo>
                <a:arcTo wR="3600" hR="3600" stAng="16200000" swAng="-5400000"/>
                <a:lnTo>
                  <a:pt x="0" y="25054"/>
                </a:lnTo>
                <a:arcTo wR="3600" hR="3600" stAng="10800000" swAng="-5400000"/>
                <a:lnTo>
                  <a:pt x="18000" y="286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57200" y="685800"/>
            <a:ext cx="8458200" cy="6094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t of community developed specifica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Use Case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09480" y="1752480"/>
            <a:ext cx="807732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RAP Use Case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Comprehensive Remedia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– remediate one or more computing assets for all vulnerabilities and mis-configurations discovered during a prior assessme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Selective Remedia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– remediate one or more computing assets for a subset of vulnerabilities and mis-configurations discovered during a prior assessme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Independent Remedia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– apply one or more remediations to one or more computing assets regardless of their current state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905120" y="1828800"/>
          <a:ext cx="5243400" cy="3817800"/>
        </p:xfrm>
        <a:graphic>
          <a:graphicData uri="http://schemas.openxmlformats.org/drawingml/2006/table">
            <a:tbl>
              <a:tblPr/>
              <a:tblGrid>
                <a:gridCol w="1168200"/>
                <a:gridCol w="1484280"/>
                <a:gridCol w="2590920"/>
              </a:tblGrid>
              <a:tr h="68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ommon Remediation Enum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Establishes a common name and basic information about the remed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E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Extended Remediation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ontains supplemental information about a remed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Remediation Control Langu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onvention for asserting which remediations are to be applied to specific ass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Remediation Policy Language Spec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Ability to constrain remediation by asset typ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Remediation Resul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ommon format for reporting the results of an attempted remed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OVR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Open Vulnerability Remediation Langu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Language for expressing the low level remediation a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Oval 16"/>
          <p:cNvSpPr/>
          <p:nvPr/>
        </p:nvSpPr>
        <p:spPr>
          <a:xfrm>
            <a:off x="609480" y="1828800"/>
            <a:ext cx="2210040" cy="1295280"/>
          </a:xfrm>
          <a:prstGeom prst="ellipse">
            <a:avLst/>
          </a:prstGeom>
          <a:solidFill>
            <a:srgbClr val="77777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Naming &amp; Describing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Oval 20"/>
          <p:cNvSpPr/>
          <p:nvPr/>
        </p:nvSpPr>
        <p:spPr>
          <a:xfrm>
            <a:off x="609480" y="4952880"/>
            <a:ext cx="2210040" cy="685800"/>
          </a:xfrm>
          <a:prstGeom prst="ellipse">
            <a:avLst/>
          </a:prstGeom>
          <a:solidFill>
            <a:srgbClr val="77777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_x0012_</a:t>
            </a: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Remediat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Oval 21"/>
          <p:cNvSpPr/>
          <p:nvPr/>
        </p:nvSpPr>
        <p:spPr>
          <a:xfrm>
            <a:off x="609480" y="4343400"/>
            <a:ext cx="2210040" cy="631800"/>
          </a:xfrm>
          <a:prstGeom prst="ellipse">
            <a:avLst/>
          </a:prstGeom>
          <a:solidFill>
            <a:srgbClr val="77777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Reporting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491200" y="204840"/>
            <a:ext cx="4466160" cy="73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Capabilitie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Oval 7"/>
          <p:cNvSpPr/>
          <p:nvPr/>
        </p:nvSpPr>
        <p:spPr>
          <a:xfrm>
            <a:off x="609480" y="3124080"/>
            <a:ext cx="2210040" cy="1219320"/>
          </a:xfrm>
          <a:prstGeom prst="ellipse">
            <a:avLst/>
          </a:prstGeom>
          <a:solidFill>
            <a:srgbClr val="77777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Orchestr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Publication Suite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ST will work with the community to develop a set of publications describing these enterprise remediation capabilities.  These publications will be hosted on the NIST Computer Security Resource Center (CSRC) website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AP Vision Docu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e to Adopting and Using ER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AP Technical Specific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AP Component Specificatio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AP Data Exchange Format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Component Specifications Roadmap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P Component Specification Roadmap (DRAFT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2010: CRE, ERI, Policy Languag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2011: Control Language, Resul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2012: Remediation Languag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Publication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P Publication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P Vision Docu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 to Adopting and Using ERAP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P Technical Specificatio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5:24:41Z</dcterms:created>
  <dc:creator/>
  <dc:description/>
  <cp:keywords/>
  <dc:language>en-US</dc:language>
  <cp:lastModifiedBy>sboczeno</cp:lastModifiedBy>
  <cp:lastPrinted>2009-04-22T19:24:48Z</cp:lastPrinted>
  <dcterms:modified xsi:type="dcterms:W3CDTF">2010-06-08T17:15:32Z</dcterms:modified>
  <cp:revision>1052</cp:revision>
  <dc:subject/>
  <dc:title>Security Content Automation Protocol and What It Means to Information Assur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4381033</vt:lpwstr>
  </property>
</Properties>
</file>